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2935-E1CF-4DC9-87F3-78DA8E632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EA08-A631-4C51-9560-10FB1D71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6AB4-5B1C-4364-8137-AFD998937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0326-E9CC-4A20-BD88-28934D9D5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632B-DF3C-4F0A-8C0E-6F0B6812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981A-B452-491B-8F0E-709603F0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87D3-D45E-4439-9449-C449FD93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D0FF-352F-41AE-9ABB-D1F58BFD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F4E9-A291-4896-A1AF-1584456D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AE1E-334C-4A5E-A82D-5921D5F0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BC7E-CA2C-4E86-A150-3524B428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45DB-BD57-4110-9771-06A3D08A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5D60-1573-47B5-AE60-1C33CAEBC5CD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1592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Population Terminolog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rth Rate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number of births per 1000 people in the population per year in a count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ath Rate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number of deaths per 1000 people in the population per year in a count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migration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migration of people out of a count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mmigration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migration of people into a count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LEDC: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Less Economically Developed Country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MEDC: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More Economically Developed Country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Migration: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The permanent or semi-permanent movement of people to live and work in another area or country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Natural Increase: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 relationship between the birth rate and the death rate of a country or area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Population Growth: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 difference between (BR + Immigration) and (DR+ Emigration)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03:16:20Z</dcterms:created>
  <dc:creator>Dell_02</dc:creator>
  <dc:description/>
  <dc:language>en-US</dc:language>
  <cp:lastModifiedBy>Dell_02</cp:lastModifiedBy>
  <dcterms:modified xsi:type="dcterms:W3CDTF">2011-01-25T03:19:24Z</dcterms:modified>
  <cp:revision>1</cp:revision>
  <dc:subject/>
  <dc:title>Population Terminology</dc:title>
</cp:coreProperties>
</file>